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9C9-1BA5-4EA8-993F-A27B71D8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65A-1298-4A73-BAEA-1172574A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15A-636A-4B76-9156-FF9F4653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9ED-08DC-4E17-87BE-6AFBAF69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B3E-29B8-42A9-8EB6-EED9BCA2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1F9-4093-4995-953A-ABA46EB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74B-74B1-4C87-92F8-1D75FCD4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879-22CA-4428-A728-FD000F2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107-D656-4FD2-929F-99878BB6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8B4-E9E7-4C12-AA11-5E52A0C7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FED-7DD2-4E2B-99CD-088ECFE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10D-70DF-4CD5-9CA8-FA7F2FA6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1400-5231-4330-B542-D3850D20E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8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continuamos el repaso para el examen de la Unidad 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6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56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 las fotos en el TEXTO pagina 130, Escucha y completa WORKBOO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.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C y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4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9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7:22:17Z</dcterms:created>
  <dc:creator>Helen Zumaeta</dc:creator>
  <dc:description/>
  <dc:language>en-US</dc:language>
  <cp:lastModifiedBy>Helen Zumaeta</cp:lastModifiedBy>
  <dcterms:modified xsi:type="dcterms:W3CDTF">2011-04-28T17:22:35Z</dcterms:modified>
  <cp:revision>1</cp:revision>
  <dc:subject/>
  <dc:title>Me llamo _________ Clase 8 IM La fecha es el 28 de abril del 2011</dc:title>
</cp:coreProperties>
</file>